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84E-9F0C-4EC4-BA35-DE5C2A76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689-48DE-4D6F-8E69-15F91BC3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84B-2F7E-41A5-A488-C661C7DD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757-E475-4746-B4FB-28A32B3A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1EC-85F1-440B-BC3C-7700E396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ED5-92B7-4289-A806-BD279773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1E9-FC36-4B30-A86D-D8E41E32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42C-C76D-4584-BF79-0062D5AC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CC1-017C-4DA4-B641-17B078D5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1F9-136E-435A-86B3-B320E65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CD8-A723-482F-86CB-090E5FC1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F69-2981-4DDB-AD2D-9286D11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1FF-2127-4A68-85FF-82B6EEEC4E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-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uilt walls; built temple (not like Solomon’s);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;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Frank D Vines</cp:lastModifiedBy>
  <dcterms:modified xsi:type="dcterms:W3CDTF">2006-06-20T14:41:10Z</dcterms:modified>
  <cp:revision>7</cp:revision>
  <dc:subject/>
  <dc:title>1 – Before the Flood</dc:title>
</cp:coreProperties>
</file>